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EAD-F85C-4F5D-BE0E-352992CD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671-0686-4C6A-B702-43DD26B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5F7-60A5-466E-8FCE-2BC8DA71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C1E-6829-40E7-9742-6F8E089D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DEE-79BA-4C58-8FC1-89AFBAB1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1714-F44C-4A0C-87C9-03EE78B0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339-5A62-404F-AF3B-7BFF126D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E74D-0C78-4C79-8B08-7C955A7B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FA58-BFAC-4054-B411-C816C4AE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747-9499-497E-AF78-7925D0C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A99-8C89-4E76-A97A-63AFB1F0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BB3-4B17-49B3-B02C-BFDF990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2292-502B-4F82-B166-1534D3D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237A-3FD6-47AC-A707-0ED81ED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FC7-39A3-4331-AB2C-77240EEE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11AE-4ED3-4D72-BF75-04925026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1A07-854E-4995-BACB-F3D6E608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15F-F85F-4135-AB28-68731B3F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A02-42CA-4284-A4F6-1636FB5D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44F-2AB5-4073-B0F2-E000B8E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3B4-8FB9-48AF-AF87-E46C7280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0BD-DA1E-4867-A0DC-CBBB02B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525-9671-4971-8C7B-49EF718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BA3-C4CE-410B-997C-CB46BC2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5CBD-BF63-4912-B4D8-79F572A0DE7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4B52-A1EB-4478-81CE-71B7F872BDB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mit ASP.NE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Grundla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0080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ahoma"/>
              </a:rPr>
              <a:t>Bonn-To-Code.NET, 18.04.2006, Albert Weinert, info@der-alber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Problem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eine Allheilmitt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 gut wie kein Fallback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arrierefreihei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uchmaschinen Indiz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enutzerfeed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Lesezeichen und Histor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ewsta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ur Tex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infach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fwendig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DOM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owserunterschied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XSLT transformier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Object Notation (JSO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Parsen notwendig (via eval()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Browserübergreifen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chneller und Platz sparender als X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ingebautes „AJAX“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1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nicht wirklich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2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 Callback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reeView (Populate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GridView (Sorting, 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tailsView (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Client Callbacks, Datenübergab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ramework für „pures“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lientseitiger Aufruf von Servermethod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„Remote Script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Datenaustaus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utomatische JSON Konvert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xception Handl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-Warteschlan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cherhei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Sicherhei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ist einseh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gaben überprüf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s nur auf der gleichen Domain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-Aufrufe manipulier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KAMMERJÄG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Javascript Debugging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Über mich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lbert Weinert</a:t>
            </a:r>
            <a:br>
              <a:rPr sz="3200"/>
            </a:b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gestellter und Freiberuf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.NET 2.0 seit Whidbey Beta 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Entwicklung seit einem Ja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ung schon ewi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bentwicklung halb so la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fehler anzeig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buggen im Visual St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explorer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enkma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Visual Studio Unterstütz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iddl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Live Http Hea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Mehr Auswahl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infachste Anwend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ndert immer komplette Se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auscht geändertes HT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ält Viewsta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heoretisch Fallback mögli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öhte Serverbelast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optimierten Contro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mote Script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iner Datenautas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iewstate Problem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Rendern der Seite auf Serv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seitiges Render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allback sehr, sehr, sehr schwieri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erverlast gering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niger Daten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mehr Arbe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omfort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agic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th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icrosoft Atla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, 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ertig Aus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 ni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per Ha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itere Framewor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ynchronous Javascript and 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mbination vorhandener Technik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er Javascript abgerufene „Webseiten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a XMLHttpRequest bzw. XmlHtt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bringen des Ergebnisses in die Se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XMLHttpRequest Brows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5.0 (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7.0 (Native, 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 ab 1.0 (Mozilla Suite, Seamonkey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afari ab 1.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Opera ab 8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etscape ab 7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nquer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Cab ab 3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ekanntere AJAX Si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Map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Sugge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 Local (Virtual Earth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Calend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Wr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Einfaches AJAX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ückschritt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ere Sprach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wieriger zu Debugg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aufwand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lagerung vom Server auf den Cli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besserte Benutzerfüh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Datenverke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nellere Web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49:12Z</dcterms:created>
  <dc:creator>aweinert</dc:creator>
  <dc:description/>
  <dc:language>en-US</dc:language>
  <cp:lastModifiedBy>Albert Weinert</cp:lastModifiedBy>
  <dcterms:modified xsi:type="dcterms:W3CDTF">2006-04-20T14:30:33Z</dcterms:modified>
  <cp:revision>24</cp:revision>
  <dc:subject/>
  <dc:title>AJAX mit ASP.NET</dc:title>
</cp:coreProperties>
</file>